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2277-E575-4684-97C7-C11703CE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353-0E77-4461-A806-01308C381EC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847-763D-4594-8E67-4623AB65703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22E0-2F64-40FF-9585-45F03849A67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356-4EE0-4324-B418-33730702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EAD-2459-43F6-B8DB-61655BE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404-6EDE-4F01-8F8E-28C8258C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3DD-05B1-480E-8E96-E7D9BE4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732-0BFA-4AC8-A277-43C1FECE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D490-53CB-4B95-9ABC-2C39187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621D-FE24-4A51-8D2C-1856CABA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3CAD-539B-4A86-8D49-5267112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8E2-045B-45A4-B5A2-D17A1E7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755-44EB-4235-B3DB-DC5A3008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C783-7AFE-4684-A139-1920B8E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E14-2FC8-41B8-8E75-AF776E29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A10-CD83-4C19-A2B4-9C8939A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D7FB-BB6D-4806-ADA6-C5654B9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33B2-28C5-4C26-B72D-47C0B84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13BF-1D3A-497F-845B-0AFAD122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8F1-61EA-4375-8743-A5D6207F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8CE9C-4107-42A9-AE76-411845BD8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C085F-2BBC-4499-A5B6-A6ECC777F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256D0-07AD-4263-9149-A7C9726385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6F1D2-3C84-4FA5-B4EB-788E93BBD0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E877E-D7A2-4C3D-91F3-884AF22223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137-8701-4E6E-A589-22375E4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97690-6A50-45C1-BD23-68DC8E4CFA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736E3-A1EC-4690-A0A7-FD84A77499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53DFA-384B-45AD-8861-EFAD734ED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3924C-4382-4D98-B058-57AF6283E2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E3E91-1582-4EF8-8A37-74E97548CD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C4294-4AFF-4D71-810E-7A5008F468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C2838-5B4F-4326-A752-4A38A2AA3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38C-31F8-4217-8DCA-9D9A324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698-5E3A-499D-B66C-9BA2A3E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202-226E-4EAE-A3B3-6E7A593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081-A415-4410-880C-AD1E9E8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397-6887-433A-8D8E-81FA5C7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F62-1707-4ADB-BE17-6CEF937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90A-7B05-4C72-A7F9-1579C218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BA3-79D4-44B2-A936-D5996FAA3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66E-2F28-4053-88A4-1EAA215C696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ПЕРИФЕРНИХ НЕРАВА ГОРЊЕГ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на ћелија или неурон представља структуралну и функционалну јединицу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B805-6C97-4213-BB64-303292B716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Нервна ћел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Скелетномоторне нервне ћел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спроводе импулсе од ЦНС-а до скелетних мишића, еферен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Сензитивне нервне ћел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спроводе импулсе од од периферије на ЦНС-у, афере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Вегетативне нервне ћел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атикуса и парасимпатикуса проводе импулса ка глатким ћелијама и ка ЦНС-у, то су афертна и еферет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B17-BBA7-4D53-B9ED-308CFA0950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Узроци оштећења ПМ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Инфек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рпе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зосте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патит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олио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вир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Интоксика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лкохолн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гље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онокси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аратхио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гље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сулфи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овањ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ешк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тали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отул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оксин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фтериј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овањ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дикаменти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етаболички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поремећаји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урем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орфир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милоидоз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ерибе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јабете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елит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алкохол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ипе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ипотиреоидиза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Тумо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бенигн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лигн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умор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Компрес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дискус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херн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пондилофи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стеофи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ауматск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мпрес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 algn="just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трауматск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штр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редмето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штр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штани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фрагментом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прелома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ст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8040" indent="-518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EFE4-7748-4539-96BB-6CF00596E9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виси од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рсте нерв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лезија сензитив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лезија мотор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лезија вегетативног неу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I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ивоа лез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гментна- радикула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перифе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2859-9DE0-4E40-AE7F-BAC8D24852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ЗИЈЕ СЕНЗИТИВ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) утрнулост, пецкање, струјање, мравињање (квалитативне проме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) хипоестезија, анестезија, аналгезија (квантитативне проме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) иритативне лезије су праћене бо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FC4-E943-42FC-B3C6-D84054064A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ЕЗИЈА МОТОРНОГ НЕУРО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)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еза / парали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) атрофија / хипотро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) атонија / хипотон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) арефлексија / хипорефлек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) присутна је електродегенеративна реакција и електромиографски налаз денерв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A7D-2EBF-409E-A943-AB7FFE0082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br>
              <a:rPr sz="40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У ЗАВИСНОСТИ ОД НИВОА ЛЕЗ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гментна  радикулар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и клинички знаци оштећења радикса израз су поремећене функције сензитивно и/или моторног корена одговарајућег спиналног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ериферна нервна л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сензибилитета и моторике   по периферном типу (у инервационом подручју оштећеног нерв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F39E-5E0F-4385-BD74-E56C9C96A2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егментна - радикуларна лез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штећење задњих коренова кичмене мождине даје поремећај сензибилитет у радикуларним зонама-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дерматоми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говарајућих корен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најчешће као последица компресије корен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(у види ишиалгије, брахиалги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штећења предњих коренова кичмене мождине даје поремећај моторике у радикуларним зонама –миотомима одговарајућих корен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арезе, парали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хипотонија, атрофија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C380-D3C6-4B0B-B5F9-747A3E1B31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ЛЕЗИЈЕ НЕРАВА ГОРЊИХ ЕКСТРЕМИТЕТ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axill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C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deloideus;m.teres minor; m.subscapula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кожа спољне стране надлакта,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рука се налази у положају адукције, благе унутрашње ро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извођења абдукције, флексије и хоризонталне абдукције надлакт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D3B2-A33D-4513-9977-8A8A01181F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РФОЛОШКА ПОДЕЛА НЕРВНОГ СИСТЕМА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нтрал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зак (encephalon, cerebrum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чмена мождина (medulla spinalis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Перифер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жд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ни (кранијални) живци (12 пари) Кичмени (спинални) живци (31 пар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Аутоном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Симпатички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Парасимпатич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0B4-CD34-4FF3-A47C-AA9556BF4F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axill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 оштећења су трауматске природе, луксација или сублуксација раменога зглоба, као и у виду  компресивне лезије као последица неодговарајућег притиска због употребе подпазушних  шт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58F1-36BE-4408-8C36-C5D23E94DA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usculocutane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C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ps brachii; m.brachioradials: m.coracobrachial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антеролатерални део подлак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лакат је екстендиран и пронир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немогућност флексије подлакта са супинац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D0C-EC0D-441D-907E-4F96A65F71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usculocutane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оштећења самог живца флексија подлактице се изводи као лажни покрет, у средњем положај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међу супинације и пронације активношћу м. брахиорадиали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налази слабост ових  мишића (хипотрофија), смањен обим покрета, као и угашен тетивни рефлекс м. бицепс брах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ци лезије јесу траума и луксација раменога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86A-4835-4FE4-8D3E-A37EE37A19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rad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а грана брахијалног плексуса;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6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brachioradialis; m. extensor carpi radialis longus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extensor carpi radialis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revis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supinator; m. extensor digitorum; m. extensor digiti V; m. extensor carpi ulnaris; m. anconeus; m.abductor pollicis longus; m. extensor pollicis brevis; m. extensor pollicis longus; m. extensor indic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058-5FB5-40F5-880C-8FA8126C97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rad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 – дорзална страна надлактице, подлактице и ш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: лакат је у флексији и пронацији, шака је у воларној флексији, палац у адукцији, прсти у семифлекс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а је активна екстензија лакта, супинција подлакта, дорзална флекија шаке и екстензија пр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сећа шака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0AB-2639-47E1-857C-0D3F48F679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ерв може бити оштећен на различитим нивоима па се разликује: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доње оштећење се манифестује немогућношћу абдукције палца који је у висини шаке,  други прсти се не могу екстендирати у проксималним фаланг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оштећење средњег дела (осим наведених поремећаја) узрокује слабост екстензије у ручном зглобу, ипарезу брахиорадиалног мишића због чега шака виси у ручном зглобу(тзв. висећа шака). Рефлекс брахиорадиалног мишића је угашен, а рефлекс м.трицепс брахи је одржа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код горњег оштећења дела н. радиалиса захваћена је цела рука јер захвата и м. трицепс  брахи те је његов рефлекс ослабљен или угаш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4D6F-2C69-4215-980D-18B7B6E3DC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. радиалис изложен је честим оштећењима, приликом повреда надлактице, при ходу са штакама, као и због тровање олов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код алкохоличара. Особа се ујутро пробуди с немогућношћу екстензије шаке. Компресија настаје на месту где живац заобилази хумерус, због притиска надлакатне кости на сам нерв (код алкохоличара који заспу с главом подупртом руком па настаје исхемиј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оравак је у правилу релативно добар. Треба што пре почети с физикалном терап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3734-C607-466E-97D5-CD9EE1AD60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6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 :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ronator ter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carpi radial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almaris long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digitorum superficial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pollicis long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xor digitorum profund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pronator quadratu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; m. flexor pollicis brevis;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abductor pollicis brev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opponens pollic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ензибилитет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латерална површина длан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ларна страна 1,2,3 прст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радијална страна 4 пр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D17-1424-44FD-8341-3C4AC5238B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палац стоји у равни длана, , ручни зглоб у ул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ној девијацији, подлакат у супина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пронације подлакта, воларне флексије шаке, опозиције и флексије пал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проповедника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50A-433B-4FC4-A7B6-81753EC803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median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77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бити оштећен због супракондиларног прелома хумеруса, повредом лакатног зглоба, подлактице, ручног зглоба, паравенским уносом лека у лакатној јами, а један од најчешћих узрока је синдром карп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16D-B94F-4D7B-9DA6-E73C32851D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ПЕРИФЕРНИ НЕРВНИ СИСТЕ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ранијални нерви 12 па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нерви 31 па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ичмени нерви настају спајањем вентралних (предњих) и дорзалних (задњих) коренова кичмене мождине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е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anterior s.motori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е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За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posterior s.sensoria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а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ganlion spin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48A-DAF4-46A6-9407-D40C9D6895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8-Th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arpi ulnaris;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igitorum profundus III et IV; 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ig. V;m. oppones dig. V; m. palmaris brevis; m. adductor pollicis; m. fle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x.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ollicis brevis, mm. 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terossei; mm. lumbricales III i IV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ензибилитет: унутрашња страна длан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надлактице, мали прст, и медијал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трана 4 прс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810E-96C4-4745-99DC-9700244A744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“канџаста шака”, атрофија хипотенара, атрофија интеросалн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немогућност аддукције и абдукције прстију, као и воларне флексије са улнарном девијациј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B84-EA1F-4BAA-BAD9-73D2C0DC2A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ulnar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у лакту најчешће узрокују компресију живца. Настаје губитак осећаја у 4 и 5 прсту, ако и атрофија малих мишића шаке. Немогућност извођења флексије ша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м у  дисталном  делу (испод лакатног зглоба, тзв. Фроментов знак) настаје атрофија малих мишића шаке што доводи до типичног изгледа шаке (тзв. канџаста шак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 може бити оштећен и притиском на лакат због дуготрајног лежања, или може бити механички оштећен при артрози лакатн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DD1F-5551-4F0B-98AA-ACCD022162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СИНДРОМ КАРПАЛНОГ ТУНЕЛ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се развијају постепено, почињу са пролазним трњењем у пр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им утрнутости прстију и целе ша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сније, развија се и мишићна слабост, па се рргиструје ослабљен стисак шаке, који особе често примете тек када им почну испадати предмети из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узнапредовалој фази може доћи до немогућности стиска шаке, као и немогућности хватања малих предм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870-1164-4025-B123-C6C72E21B1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је свакако преоптерећење тетива у карпалном каналу специфичним пословима и спортовима који узрокују њихово скраћивање, попут чишћења, рада на тастатури, зидара, дизања утега, бацачких дисциплина у атлетици, те код неких других профес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ЕМ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ично погађа обе шаке, а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у симптоми јачи у доминантној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4DA-CE30-4791-A756-5A1CB402F2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е два основна циљ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мирити симптом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бољшати флексибилност шаке и ист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љивост скраћених тет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ту сврху примењу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ЕС), УЗ, ИМП, ласеротерапија, КТХ под контролом терапеу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460-0CF2-4269-8167-52D40D6DD4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0- 7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чни зглоб је имобилисан ортозом, особу едуковати вежбама прстију (ширење и скупљање, стискање и испружање, пинцетни хват), вежбе циркулације, руку подићи изнад висине срца и ослонити на подлогу, у трајању од 20 минута мењати положај руке од маx повишеног (3мин) до маx спуштеног (1мин). Направити до пет промена , поновити три пута дне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ком дана руку држати у повишеном полож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838-DAE7-435E-B582-71F3CFD96E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8- 14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клонити ортозу, започети са мобилизацијом ручног зглоба, вежбе у циљу јачања мишића шаке и прстију те финих покрета прстију, вежбе мускулатуре целе руке и раменог појасаа, вежбе  пост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247-B653-4EF8-811B-1CC13B217B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остоператив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4- 30 дана након операциј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хтевније вежбе јачања мускулатуре подлактице, шаке и пр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договору с оператором повратак особе на поса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543-9A9C-42AD-BC87-84C6E88926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РАНИЈАЛНИ НЕРВ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можданог стабла полазе 12 пари нерава који се дел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е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II, IV, VI, X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XI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о-сензитивне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, VII, IX,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,II,VII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BA5-7F74-4415-988A-BC3F5DF177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ЛЕЗИЈА ПЛЕКСУСА БРАХИЈАЛИС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зроци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одне или опекотинске повреде и најчешће као спортске повреде (фудбал,рвање, кошарк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брахијалног плексуса код новорођенчади: ове врсте повреда најчешће се јављају приликом порођајног ак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настају приликом саобраћајних несрећа у које су укључена моторна возила (кола и моторцикли), ране од ватреног оруж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умори, радијацио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120F-0B12-4F97-9EC9-37D7D099EB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РОЂАЈНА ПАРАЛИЗА БРАХИЈАЛНОГ ПЛЕКСУС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40458c"/>
                </a:solidFill>
                <a:latin typeface="Tahoma"/>
              </a:rPr>
              <a:t>Paralysis plexus brachialis obstretrical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РОЂАЈНА ПАРАЛИЗА БРАХИЈАЛНОГ ПЛЕКСУС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неуролошки синдром периферног типа настао на рође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узрокује га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стезање, кидањ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омпрес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ренов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5,6,7,8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Th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што има за последицу одузетост мишића, сензитивне и трофичке сметње раменог појаса и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циденца се креће од 0,2 до 4 на 1000 живорођене де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AD6B-8843-4926-9B6B-2B742E9B4E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штећења ПБ могу наста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е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због положаја фетуса, посебно врата и руке, пупковина омотана око руке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ери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многи аутори сматрају да је ток порођаја главни узрок оштећења ПБ, а то поткрепљује повећана учесталост придружених повреда)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стнаталн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67BB-9C3A-4195-996B-44E02951A8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Фактори ризика за ОБП су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ктори ризика од стране дет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росомиј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рвикално ребр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отрајан попречни положај плод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ски тонус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р након 5 минута испод 5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ца са тежином већом од 4500 г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686-930D-4546-B6A0-ADDC021427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тиологија и фактори риз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актори ризика од стране мај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нормалности утеру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бетес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јчине телесне пропорције (БМИ, ниска грађа) и годи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ца мајки дијабетичарки имају већи ризик не само због веће тежине него и због неких специфичних телесних карактеристика (шира рамена, већи дијаметар груднох коша и већи тотални БМ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C6A-BDBF-4F94-B678-D905D94BDC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током порођа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ханизам трудова самог порођаја, пролонгирани порођај, дисторзија рамена и фрактура клавикуле, преципитирани порођај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након порођа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оплазме, инфекције, компресија споља или ед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E3A-D811-43D0-A76B-A7CE2FEB8E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вија се одмах по рођењ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се развити разнолику клиничку слику: од благих, привремених испада моторике до потпуне млитаве одузетости захваћене руке уз потпуним губитак осећа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обичајена је класификација према оштећеним кореновима плексуса брахијалиса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D8F3-8E36-4ECD-BAB6-01D1CE7C59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ласификација је према оштећеним кореновима плексуса брахијалиса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вреда C5, C6 корена. Захваћени су мишићи рам.појаса и флексори и супинатори подлакта. Може захватити и корен C7 – проширени тип I. Захваћени су и m triceps и екстензори ручног зглоба и прс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њи тип лезије; Klumpke - Dejerine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вреда коренова C8, Th1. захваћени су мали мишићи шаке и флексори ручног зглоб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омплетна лез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вреда свих коренова C5-Th1. Захваћени су сви мишићи инервисани нервима плексус брахијал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102-EA59-4DA8-B068-EA6E2975B2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ПИНАЛНИ НЕРВ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кичмене мождине полази 31 пар нера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врат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 груд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слабинск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крс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трти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нални нерв пролази кроз међупршљенски отвор и дели се у две гране: предњу и зад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903-84AE-489E-9E3E-3DD8F48AB2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је због анатомских позиција. Јавља се у 6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је адуцирана уз тело, испружена у лакту, ротирана унутра с пронираном подлактицом. Није могућа абдукција надлактице, ротација према споља у целини, као и флексија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и тонус је снижен. Повређена рука не учествује у Моро рефлексу и другим положајним тестов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хватања шаке је при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бицепса и брахиорадијалиса су угаше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FB6-4BB0-4765-8E2A-BC1CA662E0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орњи тип лезије или ЕРБ-Душенова (Erb – Duchenova) парализ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зија корен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 ретко се дешава изолова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претходне симптоме лака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 умереној флекс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флекс трицепс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гаше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834-FAB4-4AA5-B05E-0DD9169DD0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Доњи тип лезије;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Klumpke - Dejer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реће се ретко јер је тај дио плексуса смештен дубље. Јавља се у 2-1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је у положају палмарне флексије са хиперекстензијом првих фаланги прстију, палац је аддуциран и опонир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а изгледа попут канџ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стаје рефлекс хватања, а у положајним тестовима одговор шаке је патолош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68EA-DA8E-4F9F-8C6A-8BABB617CE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летна лезија плекуса брахијали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руга по учесталости. Јавља се у 30% случаје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је непокретна, хипотрофична, млитаво лежи уз тело у положају унутрашње ротације, адукције надлактице, с пронираном подлактицом, воларно флектираном шаком и прстима, уз адукцију и опозицију пал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 је оштећен у различитом степе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ро се не изазива, рефлекс хватања шаке изоста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и тетивни рефлекси су одсут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8146-7C67-4EA8-AC33-D03FF0366A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АТНО ПОНАШАЊЕ ДЕТЕ, спонтана моторика, симетриј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пасивне покретљивости, снага активних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неонаталних рефлекс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 (додир, бо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МН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МР, Ц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868-B22F-49D5-97A4-07395E7729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Хабилитација деце с оштећењем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лексуса брахијалис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ложен и специфичан проблем и проводи се тимск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хтева мултидисциплинарни и интердисциплинарни приступ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Циљеви хабилитациј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летно вратити сензорну и моторну контро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ржати и повећати обим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ећати мишићну сна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стицати билатералну функционалну актив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ечити секундарне компл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EA7-AD69-4DDB-8175-6438719017D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зултати хабилитације  зависе од следећих фактора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у треба започети р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мора бити квалитет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а је добра сарадња с родитељ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ребно је поставити реалне циље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ивациј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зирање терап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51D-2FDF-4102-8576-6A3D7F51FE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Лечење порођајне парализе плексуса брахијалис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120" y="16765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тс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хируршко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педско хирурш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DD6-BCFE-4817-9A22-FEF618A93A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ог лече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ње физиолошког обима покрета у зглобовима афициране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појаве остео-арикуларних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ње конрактилности мишића  до реинервације и спречавање атро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циркулације крви и лимф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езбеђивање прилива аферентних импулса из пареичне руке у одговарајуће центре у ЦНС-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нова пуног обима покрета ако је до контрактуре дошл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C58F-F4CA-4483-828E-BFA73E7CF9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E1C-F8F1-4079-9CFA-B31F80CC3F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дње гране кичмених нерава граде нервне сплетове (изузев грудних нерава)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cervic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brachi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nn intercost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 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plexus coccige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A2CB-AA00-493F-88B8-755FB7444B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1. Анализа држања и спонтане покрет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ете треба да је без горњег дела одеће, на терапеутском столу.  Посматрањем се анализира држање које је одређено типом одузетости и спонтана покретљивост ру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2. Испитивање обима покрета у зглобовима раменог појаса и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спитују се пасивни покрети и упоређују за физиолошким покретима здраве руке. Изводии опрезнои споро да мишићи не би реаговали заштитном контрактуром и скраћењ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122-BFE1-44CC-9A70-EE3EACDBC7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3. Мерење обима и дужине афициране руке и упоређивање са здрав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4. Тестирањ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оје потешкоће у класичном тестирању мишића путем ММТ-а код де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јчешће се користи модификација где је оцена  0-нема покрета; 1-покрет у зачетку; 2- покрет кроз корисну амплиту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5. Испитивање сензибилитета –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одир или коцкица л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57bd4"/>
                </a:solidFill>
                <a:latin typeface="Tahoma"/>
              </a:rPr>
              <a:t>6. Испитивање употребе руке и анализа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748-F3D0-4875-86FE-574C1734BB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ПОЗИЦИОНИРАЊ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091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ком прве 2 недеље након рођења дете се оставља мирно, да се повуку последице трауме, ресорбује оток и крвар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ка се поставља у положај који спречава тракцију повређених коренова ПБ. Код изражене млитаве парализе рука може да се постави преко груди де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раженог горњег типа одузетости позиционирање може да се изведе помоћу Крамерове шине која прати спољну ивицу грудног коша, ндлакат, подлакат и шака. Крамерова шина се поставља у положај абдукције 90⁰ спољашње ротације од 90⁰ у рамену, лакат у флексији 90⁰, подлакат супиниран, шака у благу дорзифлексију, палац у опозицију, а прсти у семифлекс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55C-BC0A-4879-826A-E363676E9F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АРАФИНСКО ПАКОВАЊ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као увод у КТХ, јер побољшава циркулацију крви и лимфе, убрзава метаболизам и трофику, има аналгетски ефека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шеслојна газа се натопљена парафином се наноси на лопатицу, раме и руку у целини, 30 минута 1х дневно, од 2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668-ADB5-468C-8914-06E6BCFD71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ЕЛЕКТРО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Електростимулација експоненцијалним импулс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3 недеље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лективним дражењем паретичних и паралитичних мишића спроводи се једном дне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980-2B9E-4DAE-AB39-5BB6AF6366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КИНЕЗИ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d44a4"/>
                </a:solidFill>
                <a:latin typeface="Tahoma"/>
              </a:rPr>
              <a:t>1. ПАСИВНЕ ВЕЖБЕ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 очување обима покрета у зглобовима делује се на очување дужине меких ткива и физиолошких својстава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дстављају извор аферентних имулса из инактивних зглобовс ка одговарајућим центрима у ЦНС-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воде се у физиолошкој амплитуди 1-2 х дневно, по 10-15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D1E-A7C6-4DEC-8FA0-578C458E9C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КИНЕЗИ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ТИВНЕ ВЕЖБЕ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 стимулацију мишићне активности у периоду новорођенчета и периоду одојчета користе се рефлексни одговори добијени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роцептивном стимулацијом (додир, притисак, коцкица леда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риоцептивном стимулацијом (рефлекс на истезање, апроксимација или дистракција зглобних површина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ом постуралних рефлекса (управљање, одбране, равнотеже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ијентационим одговорима (тактилна, мануелна, визуелна, звучна оријентациј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0C5-17A2-464F-8F5B-4F396CBCC3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ХИДРО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друге године живота се спроводи у кадицама за хигијенско купање, касније Хабард кади или терапијском базе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исти се топлотни ефекат воде за савлађивање контрактура, спровођење ктх програма у растереним условима и условима повећаног отпо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180-EC75-448D-A212-B8C7752280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РАД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исте се одабране играчке : за хватање (звечке, колутови, куглице, коцке), звучне играчке, играчке чији се тастер притиска једним прстом, телефон, сат, играчке које се крећу на навијање, музички инструменти (клавир, бубњеви), маказе, олов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E15-CC14-40D7-9AE5-E5CA282D22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епени оштећења ПМН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2FC-CD96-4541-885D-8B2B37BA77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урапраксиј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нтуз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р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време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ремећ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унк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ив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ста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јств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ум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Аксонотмези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и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тоанатомс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ред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њихови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јелински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шуљи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вано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војниц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убулус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главн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оштеће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сонотме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мат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езиј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ивц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"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континуитет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"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уротмезис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дстављ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у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и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р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теж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ред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истал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гмен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длеж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алерово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егенерациј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ВРАТНИ ПЛЕКСУС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plexus cervicalis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огућава нервну повезност са главом вратом и раме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коренови спиналних нерава 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</a:rPr>
              <a:t>C1-C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а изазивају : трауме, операције, прострелне р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мптоми су: главобоља, слабост, атрофија и спазам мишића вр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9C4-40E0-4FA9-987C-1D051F2050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Неурапраксиј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контузиј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нер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верзибилни поремећај провод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оравак унутар 6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биохемијских промена у мијелинском омотачу (нерв је интакта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а Валерове деген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је оштећена моторна функција, ретко сензибил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DE4E-86E3-4FC3-8BC1-C60BDCAC9C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Аксонотмезис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sr-CS" sz="4000" spc="-1" strike="noStrike">
                <a:solidFill>
                  <a:srgbClr val="660066"/>
                </a:solidFill>
                <a:latin typeface="Tahoma"/>
              </a:rPr>
              <a:t>прекид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660066"/>
                </a:solidFill>
                <a:latin typeface="Tahoma"/>
              </a:rPr>
              <a:t>аксо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континуетета аксона и мијелинског омотача, сачувани су везивни омотач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ално од повреде аксон дегенер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ксимално од лезије долази до смањења дијаметра аксона и мијел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тотална моторна и сензитивна одузет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енерација аксона се одвија неометан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mm/д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оравак понекад изискује третман 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 18 месе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4A5-62B9-4F88-A527-BC98C0DCE3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Неуротмезис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континуитета аксона, мијелинског омотача и везивних омотач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л. слика: парализа флакцидног типа, брзо напредовање атроф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МГ показује денервационе потенцијале, полифазију, редукцију трасе до потпуног губитка моторних једин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 постоји могућност регенерације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тивн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0C3A-CE6B-46C2-A09D-1E1ECCB5DD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сл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инелов 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МИОНЕУРОГРАФИЈА (ЕМН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(Ц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уклеарна магнетна резонанца (НМ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ографија (РТ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257E-1D65-4BB0-BE61-9B3AC0CEDB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ОТЕРАПЕУТСКА ФУНКЦИОНАЛНА ПРОЦЕНА ЛЕЗИЈЕ ПМ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772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F0C-F4C6-49C9-B51B-13E4EE47AF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(кортикостероиди, вит Б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(унутар 3 месеца од повреде, може и након годину д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FC8E-8030-4E0C-ABBE-6ECEECCF3B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дицинска рехабилитац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према стадијуму обољења и функционалном налазу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дијум 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ум опо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дијум трајних послед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014-C943-4F57-B65F-7DA61EB37E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неге: позиционирање, елевација и заштита екстремитет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C63F-06ED-42BC-9EA9-C895A9C4C9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44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Ч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E10F-95F5-432D-9A1B-3A5C51674B6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хиперемије, боље оксигенације ткива, ресорпције патолошких продуката → повољни услови за регенерацију перифер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и спазмолитич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мекашава везивно тки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примењу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лажна топлота (топла вода, компресе), пелоид, парафин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фрацрвени зраци и краткоталасна дијатерм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677-9010-45CA-88E7-D257A56C6B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ВРАТНИ ПЛЕКСУС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plexus cervicalis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предње гране прва 4 кичмена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 њега полазе 2 врсте гра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е за кожу в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, уха, рамена и горњег дела грудног кош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е које инервишу мишиће врата и дијафрагм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D3E-25FE-46DE-82BD-ACB110DE97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билна галванизација- доводи до вазодилатације, аналгетски ефекат, позитиван трофички ефекат и на процес регенерације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галванске купке- позитиван ефекат галванске струје и хидро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фореза лекова- вазодилататори, аналгетици, кортикостероиди, Б витам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-аналгетски, вазодилататорн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813-C85B-4B59-AC37-5A0554CBDA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 e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споненцијалне струје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селективног дражења одузет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ање импулса се подешава у зависности од степена периферне 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хника- монополарна и биполар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-5 серија по 10 контра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постизања оцене 3 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6F5A-E0B3-4F73-9A49-C4C19CF384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e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споненцијалне струје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рјентацио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јањ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мпулс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уз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висност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тепен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ериферн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ајтеж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( 500-1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/ 2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ешто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лакш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( 250-5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/ 10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Лак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---( 50-125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/ 250-50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мишић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---------------( 0,1- 3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/ 2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769040" indent="-19656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2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500/2000,  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0-2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4" marL="1769040" indent="-19656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1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250/500,   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2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200" spc="-1" strike="noStrike">
                <a:solidFill>
                  <a:srgbClr val="40458c"/>
                </a:solidFill>
                <a:latin typeface="Tahoma"/>
              </a:rPr>
              <a:t>  2+ -4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55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3A9-307F-4603-9AA0-D2665CC94F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лектротерап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- 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нибиторно на симпатикус, доводе до активне хиперемије, има аналгетско и трофичко дејство, тиме доводи до стимулције регенерације перифених нерава и побољшања функционалног стат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24D-F963-479D-B986-82C30E80FC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- КТ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1D5-986A-48D3-880C-71198087B4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- дејство се заснива на темичком, мехничком и хемијском дејству, као и позитивном психолошком ефект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код лезије периферних нерава користи се биостимулативни ласер: биостимулација ћелија, аналгезија и антинфаламаторн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убрзава и регенерацију нар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2EB4-E43D-4F16-84DB-E2EC99CEB9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ДУЗЕТ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sr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Аналгетски ефекат путем хиперполаризације ћелијске мембране, повећаном продукцијом ендорфина и нормализацијом циркулације крви и лимфе и пх крви, поспешује регенерацију периферних нерава и спречава развој трофичких улкус</a:t>
            </a:r>
            <a:r>
              <a:rPr b="0" lang="sr-Latn-C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ЧНА 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смањења количине ожиљног ткива у оперативном подручју након оп лечења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 – аналгетско и седативно дејство , доводи до побољшања локалног метабол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055-0C06-4B9D-AE62-DC80540C72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 У ЦИЉ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моторне рееду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ензорне рееду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РЕЕДУКА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 са отпором по принципу прогресивног оптерећења по  Де Лорм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петитивних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ксимум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ређуј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дном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дељ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тим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рије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5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ут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дељн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½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2/3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контракциј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ма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x. </a:t>
            </a:r>
            <a:r>
              <a:rPr b="0" lang="sr-CS" sz="1800" spc="-1" strike="noStrike">
                <a:solidFill>
                  <a:srgbClr val="40458c"/>
                </a:solidFill>
                <a:latin typeface="Tahoma"/>
              </a:rPr>
              <a:t>оптерећењем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2C38-2E31-42FD-AEB4-E1E1D54F45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ЕНЗОРНА РЕЕДУК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ериферн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ра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ма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бога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нзор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нервац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а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пр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лезиј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едиану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сле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грешног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растањ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аксо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г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кор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избеж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лаз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едиану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ип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неуротмез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лаз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грешн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инервац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ецептор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аће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sr-CS" sz="2000" spc="-1" strike="noStrike">
                <a:solidFill>
                  <a:srgbClr val="40458c"/>
                </a:solidFill>
                <a:latin typeface="Tahoma"/>
              </a:rPr>
              <a:t>астереогнозијо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тежан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позна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елич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еж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рс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теријал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ег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стављен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дме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тављ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ак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творени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чим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а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б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скључил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чул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ид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вежбавањ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стереогноз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звод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а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везан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ч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с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говарајућ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ук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кож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сталих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стиј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штиће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рукавицо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окушав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пипавањем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позн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елич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ежин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врсту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материјал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редмет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DBF-F6E3-47B1-BC83-662218C385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ТАДИЈУМ ТРАЈНИХ ПОСЛЕДИЦ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ши се замена и компензација функције оштећеног нер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именом ортотских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бука пацијента једноруким активност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364B-4F7D-4660-820E-50AB992E0E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МЕНИ СПЛЕТ</a:t>
            </a: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i="1" lang="vi-VN" sz="4400" spc="-1" strike="noStrike">
                <a:solidFill>
                  <a:srgbClr val="660066"/>
                </a:solidFill>
                <a:latin typeface="Tahoma"/>
              </a:rPr>
              <a:t>plexus brachialis</a:t>
            </a:r>
            <a:r>
              <a:rPr b="1" lang="vi-VN" sz="4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раде га предње гране од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5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8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а и први грудни нерв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њега полазе 3 примарна нерва снопа од којих  полазе нерви за кожу и мишиће рамена и ру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2046-2BF2-4B6C-9369-7455D87737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5:59:55Z</dcterms:modified>
  <cp:revision>1024</cp:revision>
  <dc:subject/>
  <dc:title>Rehabilitacija traumatoloških bolesnika</dc:title>
</cp:coreProperties>
</file>